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62940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fld id="{439C8FCB-32B8-473D-92F4-3F93EFB04C6B}" type="slidenum"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29"/>
          <p:cNvSpPr/>
          <p:nvPr/>
        </p:nvSpPr>
        <p:spPr>
          <a:xfrm>
            <a:off x="0" y="914400"/>
            <a:ext cx="9144000" cy="76320"/>
          </a:xfrm>
          <a:prstGeom prst="pie">
            <a:avLst/>
          </a:prstGeom>
          <a:gradFill rotWithShape="0">
            <a:gsLst>
              <a:gs pos="0">
                <a:srgbClr val="ff0000">
                  <a:alpha val="72156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29400"/>
            <a:ext cx="9144000" cy="230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CE6332 VLSI Design Final Presentat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32A96A-FF39-486C-A60B-5AA0E45A446D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447920" cy="561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Lookup Table Using Power Gating and Forward Body Biasing Techniqu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ejia Li, Ya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 of Electrical and Computer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arlottesville, VA 22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Rotunda picture"/>
          <p:cNvPicPr/>
          <p:nvPr/>
        </p:nvPicPr>
        <p:blipFill>
          <a:blip r:embed="rId1"/>
          <a:stretch/>
        </p:blipFill>
        <p:spPr>
          <a:xfrm>
            <a:off x="3809880" y="4343400"/>
            <a:ext cx="2362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evel Conver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35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in the low power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duced swing sig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Full swing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tore logic level to prevent leakage in subsequ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45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29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762120" y="3124080"/>
            <a:ext cx="7772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High Power Mode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n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48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37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31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18076" r="0" b="10609"/>
          <a:stretch/>
        </p:blipFill>
        <p:spPr>
          <a:xfrm>
            <a:off x="914400" y="3048120"/>
            <a:ext cx="8001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Low Power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n / Power gating: PMOS off, NMO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ergy per switch: 101 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280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lay: 55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925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B off / Power gating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tic power: 84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umma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have designed a low power lookup table using power gating and forward body biasing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ur different operation modes are available, depending on the power/delay requi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ture work needed to optimize the performance (like reducing leak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li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ell Driver for F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 circui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pu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co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 pow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leep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Introdu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-power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wer 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ody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ate b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-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choose LU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e lin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523880"/>
            <a:ext cx="9144000" cy="4648320"/>
            <a:chOff x="0" y="1523880"/>
            <a:chExt cx="9144000" cy="4648320"/>
          </a:xfrm>
        </p:grpSpPr>
        <p:sp>
          <p:nvSpPr>
            <p:cNvPr id="93" name=""/>
            <p:cNvSpPr/>
            <p:nvPr/>
          </p:nvSpPr>
          <p:spPr>
            <a:xfrm rot="16200000">
              <a:off x="2705040" y="3009960"/>
              <a:ext cx="1371600" cy="838080"/>
            </a:xfrm>
            <a:custGeom>
              <a:avLst/>
              <a:gdLst>
                <a:gd name="textAreaLeft" fmla="*/ 301680 w 1371600"/>
                <a:gd name="textAreaRight" fmla="*/ 1069920 w 1371600"/>
                <a:gd name="textAreaTop" fmla="*/ 184320 h 838080"/>
                <a:gd name="textAreaBottom" fmla="*/ 653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28600" y="2666880"/>
              <a:ext cx="457200" cy="1981440"/>
              <a:chOff x="228600" y="2666880"/>
              <a:chExt cx="457200" cy="198144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666880"/>
                <a:ext cx="457200" cy="198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" y="3657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600" y="4191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143000" y="28954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3124080"/>
              <a:ext cx="1447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200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 Buf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676520"/>
              <a:ext cx="167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RAM configuratio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6600" y="2895480"/>
              <a:ext cx="114300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600" y="32004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evel 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1981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1981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15238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rol Sig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85800" y="3276720"/>
              <a:ext cx="457200" cy="457200"/>
              <a:chOff x="685800" y="3276720"/>
              <a:chExt cx="45720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" y="3276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800" y="342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5800" y="3581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800" y="3733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362320" y="3276720"/>
              <a:ext cx="609120" cy="457200"/>
              <a:chOff x="2362320" y="3276720"/>
              <a:chExt cx="60912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62320" y="32767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2320" y="342900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62320" y="35812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62320" y="3733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098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42900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2960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29600" y="2971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5029200"/>
              <a:ext cx="190476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2320" y="52578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ll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952880"/>
              <a:ext cx="1219320" cy="121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4952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ower Gating Selector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5" idx="0"/>
              <a:endCxn id="93" idx="2"/>
            </p:cNvCxnSpPr>
            <p:nvPr/>
          </p:nvCxnSpPr>
          <p:spPr>
            <a:xfrm flipH="1" flipV="1" rot="5400000">
              <a:off x="2695320" y="4333680"/>
              <a:ext cx="1086480" cy="305280"/>
            </a:xfrm>
            <a:prstGeom prst="bentConnector3">
              <a:avLst>
                <a:gd name="adj1" fmla="val 420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 flipH="1" flipV="1">
              <a:off x="5105520" y="4114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676160" y="4114800"/>
              <a:ext cx="3733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81280" y="388584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System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Mux Structu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use high Vt devices (NMOS_VTG) in the mux together with forward body bi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The Well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nerate the body bias required for F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0.64V in ou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trade-off between power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Power Gating Circuit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gh power mode: both PMOS and NMOS ar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w power mode: PMOS off, NMOS 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reduced V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leep Mode: PMOS off, NMO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429000" cy="2119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3271680" cy="358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5943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de selection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19720" y="5028840"/>
            <a:ext cx="761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18148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Output Driv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a PMOS keeper to restore the logic level after the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114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31:34Z</dcterms:created>
  <dc:creator>HSCS</dc:creator>
  <dc:description/>
  <dc:language>en-US</dc:language>
  <cp:lastModifiedBy>crayon</cp:lastModifiedBy>
  <dcterms:modified xsi:type="dcterms:W3CDTF">2010-12-06T07:37:07Z</dcterms:modified>
  <cp:revision>1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NL Template Revised 11-8-06</vt:lpwstr>
  </property>
</Properties>
</file>